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09FCE-3586-400C-BFBC-828243B404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49CAA-8A59-444F-B741-CE60949BC0D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3FE5-188D-4338-A880-5B8B210FEF1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8D05-38BC-4C93-BEC5-B07BC34E438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7CD76-D4FC-43C7-9824-FACE83A28DE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5EDF-E896-409A-9605-0F90CDBC59A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0E9A-2630-4F72-80DD-F172CBBA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7449-CDE1-453F-9F65-CBFFB1E4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361F-73C7-4440-9CD6-22CE4EB7A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C89B-7797-437B-A725-32963D3C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2BCA-AD96-47BD-AB74-0D3874EDC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3E5B-746D-4DE9-B863-EEDAD0B6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386F-5B7B-4FFE-A239-2E693BE6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127A-134B-4E7E-AA4C-8FD05D1B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85DB-FBAC-4163-B2EB-F84E8211E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E557A-4060-4325-B4CB-FD3888FA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97DF-45E4-473A-814D-94B0E42E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29AA-BA7B-4E16-B8D3-94569497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56FD-F24E-4F8E-B092-35EE0013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81A10-C674-45C4-A928-11CF3CA2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496B0-DB80-4605-A118-4A970F6F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1566-8D6D-4480-A191-7FD8DDAC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EEE1B-8AD7-4AD9-A132-522798866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BBA9-D412-4649-B08C-12EE3C11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B461-31AF-470E-B49C-1B22338A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26CF-E8BC-4E15-8E4D-1F839D3C8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1162-2736-4D31-AD3B-7A1F11797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7303-7138-4401-927B-0B982907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0686-5A41-4170-ADC7-770EA768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10EC-D8A9-49E0-9E44-7B38DAB5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2EB27-8C07-401B-A6CF-6514A3B31F9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825D-54C1-4751-83D6-87C8C9DA82D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http://sutd.ru/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sutd.ru/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560" y="659880"/>
            <a:ext cx="8713800" cy="22654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Arial"/>
              </a:rPr>
              <a:t>Молодежный форум </a:t>
            </a:r>
            <a:br>
              <a:rPr sz="3200"/>
            </a:br>
            <a:r>
              <a:rPr b="1" lang="ru-RU" sz="3200" spc="-1" strike="noStrike">
                <a:solidFill>
                  <a:srgbClr val="ffcc66"/>
                </a:solidFill>
                <a:latin typeface="Arial"/>
              </a:rPr>
              <a:t>Приволжского федерального округа</a:t>
            </a:r>
            <a:br>
              <a:rPr sz="3200"/>
            </a:br>
            <a:r>
              <a:rPr b="1" lang="ru-RU" sz="3200" spc="-1" strike="noStrike">
                <a:solidFill>
                  <a:srgbClr val="ffcc66"/>
                </a:solidFill>
                <a:latin typeface="Arial"/>
              </a:rPr>
              <a:t>«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</a:rPr>
              <a:t>Волга – 2013»</a:t>
            </a:r>
            <a:br>
              <a:rPr sz="3200"/>
            </a:br>
            <a:r>
              <a:rPr b="1" lang="ru-RU" sz="3200" spc="-1" strike="noStrike">
                <a:solidFill>
                  <a:srgbClr val="ffcc66"/>
                </a:solidFill>
                <a:latin typeface="Arial"/>
              </a:rPr>
              <a:t>Смена «Технология добра»  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6560" y="2437920"/>
            <a:ext cx="7936200" cy="25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79280" y="3067200"/>
            <a:ext cx="8713800" cy="3141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ия лекционных занятий на тем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Деятельно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обровольческих центров и созд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олодежных добровольческих агентств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ладимир Лукьян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лександр Антон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ЦЕЛИ И ЗАДАЧИ ДЦ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42472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Целью деятельности ДЦ являетс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обеспечение благоприятных условий для граждан, государственных, муниципальных и некоммерческих организаций социальной сферы в области добровольчества и поддержка добровольческих инициатив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Основными задачами деятельности ДЦ могут быть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ормирование, просвещение, вовлечение, поддержка и стимулирование населения для участия в добровольческой деятельности в социальной сфере, уделяя особое внимание поддержке молодежного и семейного добровольчеств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сурсная поддержка и предоставление базового комплекса услуг для организаций социальной сферы в области стимулирования, поддержки и развития добровольчества  в интересах развития социальной сферы и решения социальных проблем территории, повышения социально-экономической эффективности добровольного труд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496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тие практического взаимодействия и партнерств в области поддержки добровольчеств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действие созданию и функционированию структур поддержки добровольчества на различных уровнях, а также в профильных организациях социальной сферы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единение потребностей организаций социальной сферы в добровольческих ресурсах с интересами граждан к добровольческой деятельности и добровольному труду в социальной сфере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вышение квалификации, обучение и подготовка новых кадров в области управления добровольцами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94920" y="549360"/>
            <a:ext cx="849636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едение исследований, обобщение информации, распространение опыта и технологий в области добровольчества, внедрение в практику эффективных форм вовлечения граждан в добровольческую деятельность и методов организации добровольного труд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влечение государственных, муниципальных и негосударственных организаций социальной сферы, коммерческих компаний, СМИ, частных доноров и авторитетных персон  к решению вопросов, связанных со стимулированием добровольчеств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действие расширению финансовой и материально-технической базы для развития системы поддержки добровольческих инициати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360" y="1773000"/>
            <a:ext cx="8059680" cy="4105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Городской Центр поддержки добровольческих инициатив в структуре Санкт-Петербургского государственного учреждения «Центр международных гуманитарных связей» (Санкт-Петербург, 2008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 Добровольческий центр в структуре Муниципального учреждения социально-культурного обслуживания молодежи и подростков «Молодежный информационно-культурный центр» (Новокуйбышевск, 2008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Государственное (областное) учреждение «Центр развития добровольчества» (Липецк, 200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68360" y="33336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Деятельность государственных и муниципальных добровольческих центров в Российской Федерации стала организовываться с 2008 год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55640" y="1915920"/>
            <a:ext cx="7772400" cy="4105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обровольческие центры и агентства добровольной помощи составляют основу инфраструктуры поддержки добровольческих инициатив на региональном и местном уровнях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общественные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муниципальные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- государствен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468360" y="33336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ПРАВОВЫЕ ОСНОВАНИЯ И ОРГАНИЗАЦИОННО-ПРАВОВЫЕ ФОРМЫ Д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НОРМАТИВНО ПРАВОВАЯ БАЗА ДОБРОВОЛЬЧЕСКОГО ЦЕНТРА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170028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нституция Российской Федерации (ч. 4 и 5 ст. 13, ч. 2 ст.19, ст. 30)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ражданский кодекс Российской Федерации (ст. 117)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деральный закон от 19 мая 1995 г. № 82-ФЗ «Об общественных объединениях»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деральный закон от 28 июня 1995 г. № 98-ФЗ «О государственной поддержке молодежных и детских общественных объединений»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деральный закон от 11 августа 1995г. № 135-ФЗ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О благотворительной деятельности и благотворительных организациях»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едеральный закон от 10 декабря 1995г. № 195-ФЗ "Об основах социального обслуживания населения в Российской Федерации"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поряжение Правительства Российской Федерации от 18 декабря 2006 г.  № 1760-р «Стратегия государственной молодежной политики в Российской Федерации»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поряжение Президента РФ от 30 июля 2009 г. № 1054- рп «О Концепции содействия развитию благотворительной деятельности и добровольчества (волонтерства) в РФ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золюция Генеральной Ассамблеи Организации Объединенных Наций от  10 декабря 1948 г. № 217 А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) «Всеобщая декларация прав человека»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оклад Генерального секретаря Организации Объединенных Наций от 10.01.2002 г. № 56/38 «Рекомендации о поддержке добровольчества»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ные нормативные правовые акты Российской Федерации и субьектов РФ, регулирующие вопросы развития социальной сферы и институтов гражданского обще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НОРМАТИВНО ПРАВОВАЯ БАЗА ДОБРОВОЛЬЧЕСКОГО ЦЕНТРА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КЛИЕНТЫ ДОБРОВОЛЬЧЕСКОГО ЦЕНТРА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424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Клиентами ДЦ являются граждане и организации социальной сфер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Основными клиентами ДЦ являютс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тенциальные и действующие добровольц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ганизации социальной сферы (НКО и ГУ/МУ), решающие социальные проблемы с участием добровольце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Косвенными клиентами ДЦ являютс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ммерческие компан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едства массовой информ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ганы государственной власти и местного самоуправл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000" y="1628640"/>
            <a:ext cx="8280360" cy="48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Добровольческие центры могут обеспечивать население и организации комплексом услуг в сфере стимулирования и поддержки добровольчества предоставляя (как минимум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информационную и методическую поддержку организациям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-  информацию гражданам о наличии видов работ, предлагаемых для исполнения на основе добровольной работы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- подготовку кадров для организации добровольной работы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- направление добровольцев для выполнения общественно полезных работ на территории своей деятельности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468360" y="33336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ОСНОВНЫЕ УСЛУГ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ДОБРОВОЛЬЧЕСКОГО ЦЕНТ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РИМЕРНЫЙ НАБОР УСЛУГ</a:t>
            </a:r>
            <a:br>
              <a:rPr sz="2400"/>
            </a:b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ДЛЯ ПОТЕНЦИАЛЬНЫХ И ДЕЙСТВУЮЩИХ ДОБРОВОЛЬЦЕВ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ведение просветительских и информационно-мотивирующих мероприятий по тематике добровольчества в организациях социальной сфер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дбор и предоставление жителям (потенциальным добровольцам)  и действующим добровольцам информации о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    свободных местах для добровольного труда в организациях социальной сферы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бровольческих мероприятиях и акция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нформационная, организационная, методическая и ресурсная поддержка молодежных добровольческих инициатив (молодежных добровольческих социальных проектов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ддержка проведения гражданами городских добровольческих мероприятий и акций гуманитарного характер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ВОПРОСЫ ДЛЯ ОБСУЖДЕНИЯ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7920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щность и Миссия, принципы, основные функции, цели и задачи ДЦ и М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овые основания и организационно-правовые формы ДЦ и М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лиенты ДЦ и М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слуги ДЦ и МД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стематическая информационная поддержка действующих добровольцев – основных клиентов Центр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учение добровольцев организато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сультационно-методическая поддержка добровольцев организатор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2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слуги библиотеки добровольче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слуги Лектор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держка Клуба добровольце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ощрение добровольцев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0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РИМЕРНЫЙ НАБОР УСЛУГ</a:t>
            </a:r>
            <a:br>
              <a:rPr sz="2400"/>
            </a:b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ДЛЯ ПОТЕНЦИАЛЬНЫХ И ДЕЙСТВУЮЩИХ ДОБРОВОЛЬЦЕВ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Object 6"/>
          <p:cNvGraphicFramePr/>
          <p:nvPr/>
        </p:nvGraphicFramePr>
        <p:xfrm>
          <a:off x="0" y="717480"/>
          <a:ext cx="9144000" cy="614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17480"/>
                    <a:ext cx="9144000" cy="614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Text Box 8"/>
          <p:cNvSpPr/>
          <p:nvPr/>
        </p:nvSpPr>
        <p:spPr>
          <a:xfrm>
            <a:off x="250920" y="26028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РИМЕРНЫЙ НАБОР УСЛУГ ДЛЯ ОРГАНИЗА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755640" y="1412640"/>
            <a:ext cx="7772400" cy="46083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Добровольческий Центр социальной помощи (центр социального служения)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организация, продвигающая идеи добровольчества, приоритетом (предметом) деятельности которой является оказание социальной помощи (социальное служение) одной, или нескольким социальным группам, а  механизмом –  организация работы добровольцев для решения задач своей организац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Профильный Добровольческий Центр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кусируют свою деятельность на решении социальных проблем в конкретной сфере, или на характеристике добровольцев, с которыми он работает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468360" y="33336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ОСНОВНЫЕ ТИПЫ Д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755640" y="1268280"/>
            <a:ext cx="7772400" cy="4608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Ресурсный Добровольческий Центр (центр компетентности).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есурсные Добровольческие Центры сосредотачивают свою деятельность на каком-либо виде ресурсной поддержки в области добровольчества. Во многом это связано с малой устойчивостью ресурсной базы центра и уровнем квалификац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Комплексный Добровольческий Центр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Это центр, совмещающий функции ресурсного центра и центра социального служения. Комплексный Добровольческий Центр - это будущее российских Добровольческих Центров и цель для развития многих действующи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468360" y="33336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ОСНОВНЫЕ ТИПЫ Д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ример ДОБРОВОЛЬЧЕСКОГО ЦЕНТРА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Карельская региональная общественная молодежная организация «Центр развития добровольчества» действует с октября 2009 г., официально действует с декабря того же года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 начала 2010 г. является членом IAV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дея создания Карельского центра развития добровольчества жила в Республике Карелия уже довольно давно. Еще в 2005 году в г. Петрозаводск было создано партнерство двух общественных организаций КРОМОО «Центр «Инициатива» и БФ «Утешение», которое на протяжении 5-ти лет реализовывало программу развития добровольчества в Карел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Рисунок 3" descr="C:\Users\Александр\Desktop\logo.png"/>
          <p:cNvPicPr/>
          <p:nvPr/>
        </p:nvPicPr>
        <p:blipFill>
          <a:blip r:embed="rId1"/>
          <a:stretch/>
        </p:blipFill>
        <p:spPr>
          <a:xfrm>
            <a:off x="1187280" y="1563840"/>
            <a:ext cx="7272360" cy="1144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67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270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Информирование молодежи о добровольческой деятельности через различные формы, востребованные в молодежной среде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азработка образовательных программ по подготовке добровольцев и сотрудников организаций, работающих с ним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оздание и сопровождение банка данных о потребностях некоммерческих и государственных организаций в услугах добровольцев и базы данных добровольце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азработка документов регулирующих отношения волонтеров и получателей их услуг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Реализация международных волонтерских проектов на территории Карели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Поддержка добровольцев и помощь в реализации их проектов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ример ДОБРОВОЛЬЧЕСКОГО ЦЕНТРА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0" name="Рисунок 5" descr="C:\Users\Александр\Desktop\logo.png"/>
          <p:cNvPicPr/>
          <p:nvPr/>
        </p:nvPicPr>
        <p:blipFill>
          <a:blip r:embed="rId1"/>
          <a:stretch/>
        </p:blipFill>
        <p:spPr>
          <a:xfrm>
            <a:off x="1187280" y="1563840"/>
            <a:ext cx="7272360" cy="1144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1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ример ДОБРОВОЛЬЧЕСКОГО ЦЕНТРА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Региональная молодежная общественная организация "Центр развития добровольчества Республики Татарстан"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йствует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С 2006 в виде общественного объединения без образования юридического лица, с 2011 г. - официально зарегистрирована в органах юстиц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иссия 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движение идей добровольчества, сострадания и толерантности в современном обществ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Цель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создание условий для развития добровольчества в Республике Татарста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Рисунок 7" descr="http://www.kdobru.ru/netcat_files/userfiles/image/a_4a5d965a.jpg"/>
          <p:cNvPicPr/>
          <p:nvPr/>
        </p:nvPicPr>
        <p:blipFill>
          <a:blip r:embed="rId1"/>
          <a:stretch/>
        </p:blipFill>
        <p:spPr>
          <a:xfrm>
            <a:off x="907920" y="1554120"/>
            <a:ext cx="1841760" cy="2616120"/>
          </a:xfrm>
          <a:prstGeom prst="rect">
            <a:avLst/>
          </a:prstGeom>
          <a:ln w="0">
            <a:noFill/>
          </a:ln>
        </p:spPr>
      </p:pic>
      <p:sp>
        <p:nvSpPr>
          <p:cNvPr id="175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26920" y="98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слуги СО НК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 Обучение специалистов, ответственных за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работу с добровольцам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Предоставление добровольцев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 Методическая, консультационная и организационная поддержк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 Информационное сопровождени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. Ведение баз данных добровольцев 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слуги  добровольца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-27072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 Предоставление добровольческих вакансий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Методическое, консультационное, информационное сопровождение деятельност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 Поощрение добровольцев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 Адвокация добровольцев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. Обучение по общим вопросам, по направлениям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. Обмен опытом работы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7. Поддержка инициатив, помощь в реализации социальных проектов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685800" y="-100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ример ДОБРОВОЛЬЧЕСКОГО ЦЕНТ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Рисунок 5" descr="http://www.kdobru.ru/netcat_files/userfiles/image/a_4a5d965a.jpg"/>
          <p:cNvPicPr/>
          <p:nvPr/>
        </p:nvPicPr>
        <p:blipFill>
          <a:blip r:embed="rId1"/>
          <a:stretch/>
        </p:blipFill>
        <p:spPr>
          <a:xfrm>
            <a:off x="884160" y="695160"/>
            <a:ext cx="2048040" cy="2602080"/>
          </a:xfrm>
          <a:prstGeom prst="rect">
            <a:avLst/>
          </a:prstGeom>
          <a:ln w="0">
            <a:noFill/>
          </a:ln>
        </p:spPr>
      </p:pic>
      <p:sp>
        <p:nvSpPr>
          <p:cNvPr id="179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ример ДОБРОВОЛЬЧЕСКОГО ЦЕНТРА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255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вижение добровольцев Ставрополь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виз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 – Добровольчество – стиль жизни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йствует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– с 1998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исси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– развитие творческого и профессионального потенциала молодежи посредством продвижения гражданского образования, поддержки социальных инициатив, создания и укрепления молодежного добровольческого движ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Цель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– содействие развитию и распространению технологий системного социального добровольчества на Кавказ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Рисунок 3" descr="http://www.kdobru.ru/netcat_files/userfiles/Logo%20Vnet/DDS_logo2-300x300.jpg"/>
          <p:cNvPicPr/>
          <p:nvPr/>
        </p:nvPicPr>
        <p:blipFill>
          <a:blip r:embed="rId1"/>
          <a:stretch/>
        </p:blipFill>
        <p:spPr>
          <a:xfrm>
            <a:off x="755640" y="1844640"/>
            <a:ext cx="1881360" cy="1881360"/>
          </a:xfrm>
          <a:prstGeom prst="rect">
            <a:avLst/>
          </a:prstGeom>
          <a:ln w="0">
            <a:noFill/>
          </a:ln>
        </p:spPr>
      </p:pic>
      <p:sp>
        <p:nvSpPr>
          <p:cNvPr id="183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685800" y="1909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действовать вовлечению молодежи Кавказа в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общественно-полезную деятельность через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приобщение ее к деятельности добровольческих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центров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действовать разработке добровольческих программ и их реализаци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еспечить добровольческие команды информационной и методологической поддержкой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влечь внимание общественности к необходимости и актуальности развития добровольчества в современном обществе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становить более тесные связи (партнерские, творческие) с общественными организациями Кавказ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ример ДОБРОВОЛЬЧЕСКОГО ЦЕНТРА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6" name="Рисунок 4" descr="http://www.kdobru.ru/netcat_files/userfiles/Logo%20Vnet/DDS_logo2-300x300.jpg"/>
          <p:cNvPicPr/>
          <p:nvPr/>
        </p:nvPicPr>
        <p:blipFill>
          <a:blip r:embed="rId1"/>
          <a:stretch/>
        </p:blipFill>
        <p:spPr>
          <a:xfrm>
            <a:off x="755640" y="1773360"/>
            <a:ext cx="1881360" cy="1881000"/>
          </a:xfrm>
          <a:prstGeom prst="rect">
            <a:avLst/>
          </a:prstGeom>
          <a:ln w="0">
            <a:noFill/>
          </a:ln>
        </p:spPr>
      </p:pic>
      <p:sp>
        <p:nvSpPr>
          <p:cNvPr id="187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844280"/>
            <a:ext cx="77724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жет включать взаимодействующую между собой (на основе мобилизации и консолидации ресурсов) совокупность государственных, муниципальных, негосударственных некоммерческих организаций и благотворительных программ коммерческих компаний,  ориентированных на стимулирование, поддержку и развитие добровольчества.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Прямоугольник 1"/>
          <p:cNvSpPr/>
          <p:nvPr/>
        </p:nvSpPr>
        <p:spPr>
          <a:xfrm>
            <a:off x="684360" y="549360"/>
            <a:ext cx="770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Инфраструктура поддержки добровольчества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738360" y="2349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слуги СО НК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нформационная и методическая поддерж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разовательные семинар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ндивидуальные консультац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слуги  добровольца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здание условий для полной реализации творческого потенциала каждог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учение социальным технологиям в различных направлениях работ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ример ДОБРОВОЛЬЧЕСКОГО ЦЕНТРА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0" name="Рисунок 5" descr="http://www.kdobru.ru/netcat_files/userfiles/Logo%20Vnet/DDS_logo2-300x300.jpg"/>
          <p:cNvPicPr/>
          <p:nvPr/>
        </p:nvPicPr>
        <p:blipFill>
          <a:blip r:embed="rId1"/>
          <a:stretch/>
        </p:blipFill>
        <p:spPr>
          <a:xfrm>
            <a:off x="755640" y="1844640"/>
            <a:ext cx="1881360" cy="1881360"/>
          </a:xfrm>
          <a:prstGeom prst="rect">
            <a:avLst/>
          </a:prstGeom>
          <a:ln w="0">
            <a:noFill/>
          </a:ln>
        </p:spPr>
      </p:pic>
      <p:sp>
        <p:nvSpPr>
          <p:cNvPr id="191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ример ДОБРОВОЛЬЧЕСКОГО ЦЕНТРА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жегородская Служба Добровольцев действует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как Центр развития добровольчества и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благотворительности с 1999г. (с 1997 г. –  как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грамма  Ассоциации «Служение»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виз 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«Добрые дела делаются добрым людьми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Цел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 Создание условий для  вовлечения в добровольческую деятельность представителей различных слоев общества для  решения существующих местных проблем сообществ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Объединение социально активных людей, развитие Добровольческих Центров, координации и стимулирования добровольческих  инициатив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 Создание возможностей для реализации идей и раскрытия личностного и творческого потенциала  нижегородцев через добровольческую деятельнос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Рисунок 3" descr="http://www.kdobru.ru/netcat_files/userfiles/image/dobrNN_logo.png"/>
          <p:cNvPicPr/>
          <p:nvPr/>
        </p:nvPicPr>
        <p:blipFill>
          <a:blip r:embed="rId1"/>
          <a:stretch/>
        </p:blipFill>
        <p:spPr>
          <a:xfrm>
            <a:off x="665280" y="1122480"/>
            <a:ext cx="2114280" cy="3004920"/>
          </a:xfrm>
          <a:prstGeom prst="rect">
            <a:avLst/>
          </a:prstGeom>
          <a:ln w="0">
            <a:noFill/>
          </a:ln>
        </p:spPr>
      </p:pic>
      <p:sp>
        <p:nvSpPr>
          <p:cNvPr id="195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85800" y="1123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дач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ля достижения указанных целей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«Нижегородская Служба Добровольцев»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осуществляет следующую деятельность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звивает добровольческие инициативы населения города и област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ивлекает  людей к работе добровольцами (встречи с потенциальными добровольцами, консультации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формирует и развивает добровольческие Центры в област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уществляет законотворческую и аналитическую работа в области развития добровольческого  движени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ыпускает информационный листок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водит  благотворительные акции, массовые мероприяти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казывает социальную поддержку и защиту граждан, включая улучшение материального положения малообеспеченных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685800" y="-100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ример ДОБРОВОЛЬЧЕСКОГО ЦЕНТ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Рисунок 7" descr="http://www.kdobru.ru/netcat_files/userfiles/image/dobrNN_logo.png"/>
          <p:cNvPicPr/>
          <p:nvPr/>
        </p:nvPicPr>
        <p:blipFill>
          <a:blip r:embed="rId1"/>
          <a:stretch/>
        </p:blipFill>
        <p:spPr>
          <a:xfrm>
            <a:off x="665280" y="1054080"/>
            <a:ext cx="2114280" cy="2994120"/>
          </a:xfrm>
          <a:prstGeom prst="rect">
            <a:avLst/>
          </a:prstGeom>
          <a:ln w="0">
            <a:noFill/>
          </a:ln>
        </p:spPr>
      </p:pic>
      <p:sp>
        <p:nvSpPr>
          <p:cNvPr id="199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684360" y="255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слуги СО НКО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 Информационная поддержка и консультирование по вопросам добровольчества и благотворительност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Консультационно – методическая поддержк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 Организационная поддержка: информационные рассылки; содействие в установление полезных контактов и взаимодействия с другими добровольческими организациям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 Проведение кампаний для привлечение добровольцев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. Предоставление добровольцев (для проведения мероприятий, акция, и текущей добровольческой деятельности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ример ДОБРОВОЛЬЧЕСКОГО ЦЕНТРА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02" name="Рисунок 7" descr="http://www.kdobru.ru/netcat_files/userfiles/image/dobrNN_logo.png"/>
          <p:cNvPicPr/>
          <p:nvPr/>
        </p:nvPicPr>
        <p:blipFill>
          <a:blip r:embed="rId1"/>
          <a:stretch/>
        </p:blipFill>
        <p:spPr>
          <a:xfrm>
            <a:off x="665280" y="1487520"/>
            <a:ext cx="2114280" cy="2992320"/>
          </a:xfrm>
          <a:prstGeom prst="rect">
            <a:avLst/>
          </a:prstGeom>
          <a:ln w="0">
            <a:noFill/>
          </a:ln>
        </p:spPr>
      </p:pic>
      <p:sp>
        <p:nvSpPr>
          <p:cNvPr id="203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685800" y="1836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слуги  добровольца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 Консультационная и информационная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поддержка по вопросам добровольчества и благотворительности; некоммерческих организаций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  Обучающие, просветительские, мотивационные мероприятия для добровольцев (образовательные семинары, тренинговые занятия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Предоставление информации о наличие свободных вакансий, добровольческих мероприятиях и акциях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 Методическая, ресурсная, информационная, организационная поддержка добровольческих инициати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5. Поддержка Клуба добровольцев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6. Поощрение добровольцев.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ример ДОБРОВОЛЬЧЕСКОГО ЦЕНТРА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06" name="Рисунок 7" descr="http://www.kdobru.ru/netcat_files/userfiles/image/dobrNN_logo.png"/>
          <p:cNvPicPr/>
          <p:nvPr/>
        </p:nvPicPr>
        <p:blipFill>
          <a:blip r:embed="rId1"/>
          <a:stretch/>
        </p:blipFill>
        <p:spPr>
          <a:xfrm>
            <a:off x="665280" y="1341360"/>
            <a:ext cx="2114280" cy="2992680"/>
          </a:xfrm>
          <a:prstGeom prst="rect">
            <a:avLst/>
          </a:prstGeom>
          <a:ln w="0">
            <a:noFill/>
          </a:ln>
        </p:spPr>
      </p:pic>
      <p:sp>
        <p:nvSpPr>
          <p:cNvPr id="207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685800" y="119700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анкт-Петербургская региональна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благотворительная общественная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организация «Благотворительное общество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Невский Ангел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здана  5 апреля 1988 года при поддержке писателя Д.А. Гранин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ервое название – Общество милосердия «Ленинград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Миссия Обществ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ссия первого десятилетия (1988-1998 гг.): развитие благотворительности посредством оказания социальной помощи и развития творческого потенциала людей, поддержки становления и деятельности общественных объединен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иссия 1998 г. По настоящее время: развитие добровольчества и благотворительности посредством поддержки деятельности НКО, активизации граждан и содействия созданию механизмов межсекторного взаимодейств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-27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ример ДОБРОВОЛЬЧЕСКОГО ЦЕНТРА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0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5" descr="C:\Users\Александр\Desktop\йц.jpg"/>
          <p:cNvPicPr/>
          <p:nvPr/>
        </p:nvPicPr>
        <p:blipFill>
          <a:blip r:embed="rId1"/>
          <a:stretch/>
        </p:blipFill>
        <p:spPr>
          <a:xfrm>
            <a:off x="738360" y="1268280"/>
            <a:ext cx="21938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Решающиеся задач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 Передача и распространение опыта в области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добровольче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Поддержка и развитие молодежного добровольче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 Поддержка и развитие добровольчества в социальной сфер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4. Практическая реализация «Концепции развития социального добровольчества в Санкт-Петербурге на 2008-2011гг.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сновные виды деятельности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. Просветительская, лекционная и обучающая деятельност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 Техническая поддержка добровольческих инициатив молодежи и НКО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 Проведение мероприятий в области социального добровольче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ример ДОБРОВОЛЬЧЕСКОГО ЦЕНТРА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5" descr="C:\Users\Александр\Desktop\йц.jpg"/>
          <p:cNvPicPr/>
          <p:nvPr/>
        </p:nvPicPr>
        <p:blipFill>
          <a:blip r:embed="rId1"/>
          <a:stretch/>
        </p:blipFill>
        <p:spPr>
          <a:xfrm>
            <a:off x="738360" y="1712880"/>
            <a:ext cx="2193840" cy="27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68580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Общество трижды удостоено Национальной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общественной награды в област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обровольчества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, в т.ч. по номинации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«Добровольческий центр» за инновационные технологии и обучающие программы и за многолетний вклад в развитие благотворительности и добровольчества в Российской Федерац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 канун 25-летия, в 2012 году, Обществом реализована стратегическая межрегиональная программа «Вектор добровольчества – уверенность»,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ориентированная на информационно-методическую поддержку деятельности Добровольческих центров и СО НКО в регионах РФ, а также формирование сети специалистов в области добровольчества. Программа реализована при поддержке субсидией Министерства экономического развития РФ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ример ДОБРОВОЛЬЧЕСКОГО ЦЕНТРА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8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5" descr="C:\Users\Александр\Desktop\йц.jpg"/>
          <p:cNvPicPr/>
          <p:nvPr/>
        </p:nvPicPr>
        <p:blipFill>
          <a:blip r:embed="rId1"/>
          <a:stretch/>
        </p:blipFill>
        <p:spPr>
          <a:xfrm>
            <a:off x="738360" y="1494000"/>
            <a:ext cx="21938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Arial"/>
              </a:rPr>
              <a:t>АГЕНТСТВО ДОБРОВОЛЬНОЙ ПОМОЩИ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о профильная сервисная служба (организация), актуализирующая добровольческий потенциал для решения конкретных проблем территории и поддерживающая добровольческую деятельность граждан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МОЛОДЕЖНЫЕ ДОБРОВОЛЬЧЕСКИЕ АГЕНТСТВА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704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лодежные добровольческие агентства могут создаваться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в качестве студенческой организации при поддержке и участии учебного заведения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в качестве совокупности функций действующей студенческой организаци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в качестве социально ориентированной некоммерческой организаци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на базе действующей молодежной организаци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на базе действующего муниципального/государственного учреждения молодежной сферы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- на основе сотрудничества различных организаций с закрепленными функциями и ответственностям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2781360"/>
            <a:ext cx="7773840" cy="3672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Социальная значимость добровольческого центра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лючается в создании лучших условий для предоставления людям возможностей быть добровольцами, стимулирования добровольческой активности и повышения эффективности добровольческого потенциала граждан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11280" y="333360"/>
            <a:ext cx="79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Arial"/>
              </a:rPr>
              <a:t>Центральным звеном инфраструктуры поддержки добровольчества на территории является Добровольческий цент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ример МОЛОДЕЖНОГО ДОБРОВОЛЬЧЕСКОГО АГЕНТСТВА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2193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ДА «Академия добр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                  Действует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 с 2011 год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Цель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– развитие добровольческого движения на базе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вуза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дач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– информирование студентов об их возможностях в сфере добровольчества; разработка и реализация социально значимых проектов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граммы, проекты: 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бота с пожилыми людьми, детьми из детского дома, экологические проекты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слуги СО НКО: 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артнерство, консультационная поддержка в разработке и реализации добровольческих проектов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слуги  добровольцам: 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рганизационная поддержка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Рисунок 3" descr="http://www.kdobru.ru/netcat_files/userfiles/Logo%20Vnet/Akademiya%20dobra.png"/>
          <p:cNvPicPr/>
          <p:nvPr/>
        </p:nvPicPr>
        <p:blipFill>
          <a:blip r:embed="rId1"/>
          <a:stretch/>
        </p:blipFill>
        <p:spPr>
          <a:xfrm>
            <a:off x="395280" y="1628640"/>
            <a:ext cx="1903320" cy="1903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29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ример МОЛОДЕЖНОГО ДОБРОВОЛЬЧЕСКОГО АГЕНТСТВА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обровольческий клуб СПГУТ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Действует  с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 2010 год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Цель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- создание новой модели студенческого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самоуправления в ВУЗе, работающего в социальной сфере на благо общества на добровольных началах, не подвластного административному влиянию в ВУЗе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Задачи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1 Поддержка проведения социальных мероприятий в ВУЗ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2.Помощь различного рода социально ориентированным некоммерческим организациям (НКО) и государственным учреждениям (ГУ)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Рисунок 3" descr="http://www.kdobru.ru/netcat_files/userfiles/Logo%20Vnet/Dobrovolcheskiy%20klub%20SPGUT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936800"/>
            <a:ext cx="1800000" cy="1708200"/>
          </a:xfrm>
          <a:prstGeom prst="rect">
            <a:avLst/>
          </a:prstGeom>
          <a:ln w="0">
            <a:noFill/>
          </a:ln>
        </p:spPr>
      </p:pic>
      <p:sp>
        <p:nvSpPr>
          <p:cNvPr id="233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685800" y="191736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3.Обучение новым видам деятельности студентов-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активистов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4.Обучение лидерским качествам добровольцев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5.Командная работ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             6. Получение практического опыт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7.Организация проведения культурного досуга для студентов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8. Научная работа в социальной сфере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9. Профориентация студентов специальности «социальная работа с молодежью»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Программы, проекты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сбор макулатуры, организация досуга детей из  сиротских учреждений, помощь животным, массовые мероприятия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слуги СО НКО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 обеспечение добровольцами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Услуги  добровольцам: 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бучение, профориентац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ример МОЛОДЕЖНОГО ДОБРОВОЛЬЧЕСКОГО АГЕНТСТВА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6" name="Рисунок 4" descr="http://www.kdobru.ru/netcat_files/userfiles/Logo%20Vnet/Dobrovolcheskiy%20klub%20SPGUT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803240"/>
            <a:ext cx="1800000" cy="1708200"/>
          </a:xfrm>
          <a:prstGeom prst="rect">
            <a:avLst/>
          </a:prstGeom>
          <a:ln w="0">
            <a:noFill/>
          </a:ln>
        </p:spPr>
      </p:pic>
      <p:sp>
        <p:nvSpPr>
          <p:cNvPr id="237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978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ЗАЛОГ УСПЕХА ДЕЯТЕЛЬНОСТИ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4000" y="1197000"/>
            <a:ext cx="8064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ера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идеи и ценности добровольчеств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овмещение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ловеческого подхода к организации деятельности и умеренной бюрократ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пособность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лиять на социальную политику территори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дставление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обровольцев и добровольческих организаций перед лицом общества и государств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креннее внимание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 людям и организациям, их интересам и потребностя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БЛАГОДАРИМ ВАС ЗА ВНИМАНИЕ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ЖЕЛАЕМ УСПЕХ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ОБЛАСТИ РАЗВИТИЯ ДОБРОВОЛЬЧЕСТВ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ПОДДЕРЖКИ ДОБРОВОЛЬЧЕСКИХ ИНИЦИАТИ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ww.kdobru.ru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23640" y="2205000"/>
            <a:ext cx="8569080" cy="4105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Добровольческий центр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это профильная некоммерческая организация в целом или ее часть (структурное подразделение, программа), предметами деятельности которого являются вопросы поддержки добровольческих инициатив граждан и организаций, вопросы развития добровольчества в качестве социально значимого явления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95280" y="260280"/>
            <a:ext cx="856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Arial"/>
              </a:rPr>
              <a:t>Сущность и Миссия, </a:t>
            </a:r>
            <a:br>
              <a:rPr sz="3200"/>
            </a:br>
            <a:r>
              <a:rPr b="1" lang="ru-RU" sz="3200" spc="-1" strike="noStrike">
                <a:solidFill>
                  <a:srgbClr val="ffcc66"/>
                </a:solidFill>
                <a:latin typeface="Arial"/>
              </a:rPr>
              <a:t>принципы, основные функции,           цели и задачи Д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Деятельность ДЦ основывается на принципах равенства, доступности и добровольности, включая: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2062080"/>
            <a:ext cx="8064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еспечение открытого и равного доступа к услугам ДЦ граждан различных возрастных и социальных групп, организаций социальной сферы, реализующих добровольческие программы - государственных и муниципальных учреждений, общественных объединений (в т.ч. Инициативных групп), некоммерческих негосударственных организаций, коммерческих компани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астие организаций партнеров и клиентов ДЦ в его мероприятиях, направленных на поддержку добровольчества и добровольческих инициатив, продвижение ценностей добровольчеств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действие широкому взаимодействию в области добровольчества между различными субъектами правоотношений: органами власти, государственными и муниципальными учреждениями, некоммерческими организациями, коммерческими компаниями, учебными заведениями, средствами массовой информации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ние информационных, методических и других ресурсных возможностей государственных и негосударственных организаций в целях развития поддерживающих услуг ДЦ, содействие обмену опытом и ресурсами между организациями социальной сферы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66"/>
                </a:solidFill>
                <a:latin typeface="Arial"/>
              </a:rPr>
              <a:t>Деятельность ДЦ основывается на принципах равенства, доступности и добровольности, включая: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94920" y="620280"/>
            <a:ext cx="8497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600" spc="-1" strike="noStrike">
                <a:solidFill>
                  <a:srgbClr val="ffcc66"/>
                </a:solidFill>
                <a:latin typeface="Arial"/>
              </a:rPr>
              <a:t>На территории своей деятельности добровольческие центры определяются как источник ресурсов для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решения социальных проблем посредством поддержки добровольческих инициатив и как наиболее компетентные структуры в области добровольчества, в части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координации взаимодействия в области добровольчеств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актуализации добровольческого потенциала обществ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развития добровольческих услуг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повышения квалификации для организации работы добровольцев, управления добровольческими программами и проектам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42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Идентификационные характеристики добровольческих центров проявляются через их деятельность в шести областях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одвижение ценностей, практики и признания добровольчеств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здание людям возможности быть добровольцам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йствие всем заинтересованным организациям в управлении добровольческими ресурсами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астие в выработке стратегий для решения проблем территорий с учетом мобилизации добровольческого потенциала граждан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двокатура добровольцев и добровольческих организаций перед лицом общества и государства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азвитие партнерств, в т.ч. деятельность в межрегиональных и международных программах и сетях ДЦ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826920" y="18900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ОСНОВНЫЕ ФУНКЦИИ Д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Нижний колонтитул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Невский Анге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6T08:12:17Z</dcterms:created>
  <dc:creator>Anuta</dc:creator>
  <dc:description/>
  <dc:language>en-US</dc:language>
  <cp:lastModifiedBy>Александр</cp:lastModifiedBy>
  <dcterms:modified xsi:type="dcterms:W3CDTF">2013-06-19T18:45:58Z</dcterms:modified>
  <cp:revision>167</cp:revision>
  <dc:subject/>
  <dc:title>«Проблемы становления и внедрения в государственную правоприменительную практику процедур и стандартов оценочной деятельности»   </dc:title>
</cp:coreProperties>
</file>